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4444-9D51-41A5-8BA9-11AB0D60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1DD1-DE5E-42B6-9259-0927A37B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58775-2A27-4330-B039-5DCDC0C8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84AAD-B076-41AE-8D8E-E770FCDD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F75D9-1B97-4582-9BCA-E7C34C79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1A93F-00B5-45C5-B161-69C8F7C0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D916C-8F93-4638-938E-C0B4083E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D4A0B-3CAB-4E6C-879F-B3AE6247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EFC87-4C66-4C06-A2A9-A2B34E2B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038E9-E532-46BE-95D9-EAF3878D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E627A-3862-40EC-905E-0DD4D5BC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4D5CD-4A3A-4BE1-B92B-A8DF538C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A7EA-50D2-46D1-8A8E-01B7B296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926CD-D503-4C15-BCD5-43CB15CD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87A7A-C599-4F69-BC1F-E74393BD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3FF62-0A51-4133-A9E6-D4F265A7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D9F93-105D-4092-AC44-AFE7D0D8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DBC45-2FF4-4EAF-BEC9-09D8AF3E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65882-5895-479C-9523-FC4CF633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AE531-EBA8-4BE0-908F-1BBCECD6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354E7-DBBC-47CC-BF20-4D63B857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66F78-20AA-42C0-A2DC-888ADCD3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986BA-B1A9-4C56-94CD-79F7B987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4C4B-D1E9-47F6-8A34-B3E9D4AB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AA7DA-BDAB-46F6-B67C-49E32E8B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38D3D-C50A-43BC-A834-C5E0C8D6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1AA83-A20E-4A7F-A395-A7BACFBD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C9A6F-07FF-45DD-BAFB-876CE468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F5F99-0BB0-4F6F-B115-45DB5FA2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1771D-DB4F-45FF-B377-1E95752F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38DBF-3DB2-4762-9267-68C1141C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27C0A-5C88-4D5B-AE68-D8947078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CCCD9-10E6-49DE-9F59-4C15E022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72F9C-ED1A-4B70-9D43-B7F80196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7BEB-DD55-48F1-A83F-EF9E11CB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F5B6B-3319-4DDB-8599-A84613F5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A229E-03FC-4CE8-B854-943A99CB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95D58-F9CB-4E9C-948D-1FB76A4B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DFB67-BA51-48B8-91AE-90ECDB8A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51B8F-E035-4E55-96DC-C90EDDA9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97FE6-C132-405C-A7E0-9E5580AD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91EA0-9158-4DE8-AB6D-0D029BB6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96DF6-47E2-4C8E-9CD1-7D939574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E56BD-468E-48E9-B543-3B69DD19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5EF6F-4879-4356-BA4D-6FD35A6A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1FC1-B6D7-44C3-9D4D-0EEDF26B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C0C51-8D56-4377-95D6-F125E80A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202B4-BF7C-4C23-BED1-193FDD39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C1442-E377-4ECE-A561-3871D573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F3711-045A-4CAB-ADAA-D71665DF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F479C-FF9C-4D54-8B6A-BE2D1A46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A8B393-AD7D-4435-834A-56523AD1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C84494-A5B8-4CCA-8705-32F3C53E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4E159E-1247-471E-8680-7BF021E2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FDEE2B-591C-41AB-ADC5-01551F31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3D0A3A-1E23-49C7-AA2A-E09FDC89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3DD7-BEE0-408A-A67C-ED66A0EF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AF1643-C828-4584-9BC1-00648C53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8E54C1-C436-46A8-BD20-0A073D49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B44624-0711-4C8D-B883-6BC10603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5F81BD-EA54-4A39-9A8B-73FA465A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B10FC-B155-4999-BCB9-3CF1E12D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5EB635-3BFC-4CA2-82DD-D37E0672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34B029-DC29-4AC0-8546-A24CDEAC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76DC3B-C9B2-4FA1-90CE-AB04591A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E7F405-E96B-4CAA-9569-46187BB9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B8D45-4679-4B23-98C7-1A9A1577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A0FF-434A-4B8F-9FB7-335D8753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55AE17-38EB-4615-A3AB-F7F62103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8582C9-E565-4425-A4A7-57A5141D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6788B4-96EA-4ACF-B521-BBFCF6EC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2D8B8A-E7A9-41D3-841D-7058AF47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71B0F0-9776-4F4D-BA19-5E11BFA5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9B2228-8512-40CA-8C43-62F5273B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3290E2-D177-4DEC-8A39-F57FE3F1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968271-50F6-445B-9BC5-A2E575EC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4D1D59-CB55-4AF7-8709-35CC233C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B9FBC8-68EE-4F0F-A8E9-B193F680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7C51-B7BE-4073-A013-EDB4D316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513197-68BA-449C-9EF6-4B9C45E8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87200A-0740-44E6-9609-4868A17B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9A066F-3001-4183-A855-A53E59AA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76FE06-D43A-4E85-853A-EE182489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9DC220-039D-4B77-83C0-22E29696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11BB77-FDC7-4F9D-9399-20F893D4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A87E71-95B6-4B80-B984-475D062F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EF8F8D-B4A7-4978-8EA7-26EABA99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95DBB6-ACDF-4C43-957C-0217E955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7E8801-483F-4747-BF74-C7ADCF88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4AC1-46D2-4E76-A219-566F73B7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9CAD41-DD46-4974-83F9-F897017A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8F4C4F-5B8C-4C25-AC19-62EAA859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B059D0-8374-4645-87E6-51E28867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106982-352A-476A-9612-82E6D536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160F47-E176-4ED5-90F2-432575DF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E89082-73D3-40C8-8C89-394725A5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1406BF-8AAE-4BCB-BE47-3E7F8629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FADFF7-1A9E-42E7-84F3-EA251995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DD8F77-D939-4BB7-A73E-767BF4DD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C20973-6178-4138-A1DA-E3144222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1A5D-A3E9-42E3-8D0A-DBF5512D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153635-1208-4696-8A95-FD431311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D539C8-C782-41E3-9814-AB2A40FD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05EDFE-8E74-42B6-B7F4-D6AC739C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C29754-009D-469B-9C53-75EC8E3E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45FEDE-245F-4493-BBDC-87775756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59A1F9-83F1-4088-B943-6CE14A37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A976B0-ABD6-48BF-A5FF-A30E2D00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47798E-657B-4F74-99D6-2F8BB0FA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9F27C5-D41F-463F-BECC-44339750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FD5123-2C3D-4FE9-AF16-3D80C9D5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9F20-CE5D-4CE9-A5BD-EC3467A3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D00B-C01C-468D-A74C-DABC68A2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72CC17-37FC-4CA4-8B94-50E28DA7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B17B4E-753A-441B-BDC3-A5A53B43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A71C81-B03E-429F-B812-86FEBD6A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283CD7-FAC1-4649-A02E-C0D3E2D7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69DB45-FB6A-489B-B735-7F3DFA8C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874003-6974-472E-BFEC-F61A6F8B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DBADDD-FCD2-4A30-BE89-C72312E8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922FD2-890D-4D35-868E-6B80B80B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2A553C-8D7C-4B18-A43D-232D1CDA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8CAE34-6EC0-462D-8C4B-B494835B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E8FA-A83D-416B-95DF-13742D87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0D6132-E644-4219-8AC3-E93FADAD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ACD208-4164-46F0-B282-D8232048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626B53-B1A0-4EFF-B937-0A7E0195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B9E0D1-AC0C-4AA4-8E90-D639AF2D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39905B-7297-4D8F-BD5F-6A566A31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225B45-4E53-49B2-A369-0C170D54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0D0772-E066-4C33-8478-4720F328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948996-1FBD-46FF-9400-80665E9C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7A30D7-7332-4F99-A079-7E1D008E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EAB878-755F-44AC-A3E3-B4ED5B78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0878-A109-4CFF-9519-AB98BD55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151EF8-4C6D-46A8-ABD9-9CF1F668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D78687-BD44-4666-9BD9-74488821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481A78-6FCC-4694-ABC5-74C85636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08D7E3-A5C7-4221-AE08-E2A0554E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03C29F-6D21-43D7-85B6-25D64878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7FE118-545E-4E2B-9681-7BBD0744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F00F5C-CA73-4F6A-A7D1-A7F5ECFC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502EE3-2661-4DE7-B077-A99BCD3E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78BE6A-50E6-4FC4-B277-0C8EDBC9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05BB31-DDE3-4335-9AF3-30924A5C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1823-3C2C-4809-833A-846243FC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ADECD6-D3F5-4F2E-9BFE-438B8F0F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6A0665-32D4-4001-82B7-C9648B6C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B2C98D-B3F0-422C-B28D-F70524B9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5A70A1-E3E1-400A-B6D4-12EA60CB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A185B8-FE9E-492F-9318-4FF0C9DC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1A4E1A-BE63-4A6B-8E3F-593814E1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D11CAC-830C-4314-B0FA-5BC06F67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7CAACD-EBA6-49C4-A33D-9A04F744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23E478-11DC-4459-A310-4FCBA19F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B9524C-3928-46EE-9791-418EA9D9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B60C-A83C-477F-AA86-CDECCCBB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4F3246-0C3D-4886-8B1D-A31D1D34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8FFDFC-98CC-48F6-BDAA-FE444AE0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A79760-34ED-4BF1-A089-76EEDD01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C392A5-2671-4E39-B8BC-39F1DBEA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9C5FA9-C006-40B5-A87F-04F4D7D1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64DCAA-ED80-4F6A-956B-C644AADE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2EF8D1-2DE1-49B0-9F53-2A6090CD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C03FC1-377C-4D83-B518-94C0C89D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776B6A-3F81-4428-A2D4-B2B37DCA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B8B4E7-8D72-4991-99E6-383563F3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F5719-25FB-48C3-AE5E-187ABE72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CB94EE-540A-4D22-96FE-E360DB6B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DAF461-4B87-4385-A77E-2704F2BE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AD637F-AD6E-4E40-9175-D316B2DE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030E5-05FB-4B54-A701-476513B4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F47F9-7F97-493B-91A4-DF4B6799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A6728-24ED-496A-9476-D489D859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92249-DC9A-4778-A82D-3269CD9F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ED81-7D92-453A-BD63-B36AC319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D2A6C-55FD-4CF5-8D54-4DE76648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7F1FC-95C1-4F1B-A2C5-AB744AE7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9DE50-0D59-4AB5-AB31-65DADC23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9B6D0-8E7E-44ED-9660-5FD7C726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F85F8-1EA2-42F6-9453-BCE34CDB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B141E-BA07-471E-97B9-A2095B64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0E048-C057-4199-95F2-D635429D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C5B90-DC4D-41B7-B587-C482EB25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4B686-4F44-423A-A919-9665CDE1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59C34-DF2D-425F-8855-FEC5E88E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56DD-16B3-4BF9-B302-695581C1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72347-991E-4BDA-8606-E8382BBB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6C8E7-60FC-4A2D-87A5-0629B873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AB570-EEEA-4728-A69B-BAADE760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97C9C-7B76-4313-BC83-1A57A9B2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1F69A-C189-4ECE-9856-51401D9E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4CB8C-8E15-437E-BFB6-3D0906F8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F1300-9F52-4034-B704-A1C4FB97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5C18F-2E3E-400C-80C8-DC0906A8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7EC5F-00B1-4799-BAB0-E4AF8035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185F1-B724-400B-B53F-E816A610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CFA6-3169-4717-BAA2-F9F5B46D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C9483-00F4-4A2B-ADE0-BF8D4D68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27F1D-4B0D-46E3-BB83-06627606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29D27-A5A9-4E13-B9B8-C91F6E4D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3ADDD-E813-4E2E-92E9-670C8C38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5B487-122F-43A1-BE06-DA043C43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9C010-DDC5-47C8-B840-DEF3DF18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D80B7-3A6D-4DD6-BDBF-5794708D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FC6CC-7376-48F7-9F69-795D9A6A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47149-C769-4F95-AF77-0AB1FD2F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4E238-FA75-449A-B6C3-A5BC917B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5B59-40F8-4CB7-876D-13AE0D84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8B1FA-897C-42EF-A7E9-F2A0A38F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E1EE3-261D-426F-A9B2-313C5220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395E6-900F-41A6-BB84-DE831C3F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74ED8-6C7D-4D5C-BBD3-D6EA4E61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25FED-655B-4077-A18C-2D834BA0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51048-767D-4F7B-AE9F-2FF0EED0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AE203-29C8-40CE-9D10-B60124D0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31821-F778-459A-A6FE-7AEE1456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CCE09-402B-4563-BD1B-373C6177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56F57-AF04-486C-BF76-F034E80B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2FB4-D6C6-4C02-AAE8-36E57192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734BB-3C51-4978-9F53-808C8922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82A74-D26D-4C4A-83E2-BD6CBC2A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DF482-7DF8-4274-9550-8B169F2B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A3BAE-9FB7-4A98-8ECF-A801EEDC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54BBF-8E92-45CD-BDE0-A975A75E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A8801-80E3-4F7C-B6FF-CE6912DA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DC10E-5918-4534-8D62-61962B81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43F9A-11D7-445E-B820-185EE8CB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AE580-05F3-4F2B-A649-8EDD364B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99693-3568-4E4D-AE4B-11B69B82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5F37-3A47-49A3-B81F-B740868B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D76D2-9EFB-44D2-8804-ABCD6AAC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D24BA-56AB-486D-B874-9445EFF9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74685-A998-49B3-B77D-45B166E1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C5F85-77B1-45C0-8844-2294DDA3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4CFC6-C8D2-45B5-9390-297AA7CB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B4926-BBB6-4398-839B-1549B979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B180A-064C-4240-A887-889E7FFF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A115E-D52E-416D-9BFF-42F3EEA0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E5E6D-09BF-4D1B-A8AE-15EEE660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258F5-176C-41F8-BDD4-6D73688B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0969-E83E-4FFD-A799-E355361E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7EF0C-210B-4B83-960E-DB688593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9C62D-9BEB-49C4-9842-6C548490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50415-F0F0-41E3-86FF-98E78937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24CF9-C07F-4DF3-AD02-0168B8DE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3C551-04ED-4AD8-949F-503EA2E6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586A0-3ECF-4D26-B3E4-FEA08B05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81B53-0F24-4ADF-A2C1-471CB35F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DB8CD-B5C3-4505-ADE3-7696F225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C5EE6-E783-4DF7-AD1E-CDFE6BAC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9194C-0498-442A-9E11-95136341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AE47-B0DD-482D-A627-9FFB5EA7A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B0EE-EA66-41DC-8B9A-C99CFB10AF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4919-88A8-4505-AD7E-D3E8F6E129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2D9D-C640-49EB-A404-D5E2A3A9AE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78EF-6845-4B0C-9C60-18B720C32E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F6D4-537E-44E0-BF77-9E45F6D19F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1B0E-012E-4AFB-88DC-14D9E114AD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9B06-1DCF-4DEC-AA79-A298F20A81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B2A4-1C72-4FC0-B9C5-4BFF789312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A135-F9A5-4CBD-B4C7-38A2E8EBDF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6F32-7AEE-4031-A618-84D58BB998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1E4C-D29F-45C1-9E73-D510DF106D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F482-E13C-41F7-8324-69DB908A0C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4C8E-D0F4-4F8D-82FC-82E525DEEB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635F-C6BE-4201-80D9-0CDF2CAE7B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5AFC-37B1-452D-9790-166303B875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595B-0345-4CEE-88C5-5A4AFBC385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1797-FC0F-48CB-910E-A90A79A424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C876-6053-4BB3-B947-7A2E6D48A2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15EC-8987-424A-87B3-D295A4BE45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F194-3C2E-46BC-8BD7-5CD206AE88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E799-E095-4E33-B1AA-EC0FC42625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B026-268E-4160-809B-03581AA665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E4C0-142E-44EC-9FBA-080D048ED4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EDBA-533D-43C0-BF92-14D24FBFB2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0699-3A15-4CF6-9751-F0134667CC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9EE2-B45D-4D38-9F85-8E78DCF424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E767-0C7D-4F6D-912C-722C9DE1B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B295-6312-4956-A908-B753794F5D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AE0E-1ED5-42CD-8AD2-EB8CDC8893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9D60-5F46-4D55-BADC-8DE0898C40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5CD3-9696-4F29-97F1-C34A905D1E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8E17-B42A-4D3E-9A83-326056BB09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D5EE-F8A5-4419-AB03-A21A1290F1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5652-4174-42BA-A816-713BF4C81D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965F-0E44-4391-B20A-A03BA51AEF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BA9B-B05B-467E-8029-A4C1CB3EA7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FF6F-B610-42F1-94F8-50B7F8C3C3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132F-17AC-442A-85CD-8BE5D2E32B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98F1-B72B-4F98-A95A-F40712A5AB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357120" y="3298680"/>
            <a:ext cx="82868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4" name="Picture 2" descr=""/>
          <p:cNvPicPr/>
          <p:nvPr/>
        </p:nvPicPr>
        <p:blipFill>
          <a:blip r:embed="rId1"/>
          <a:stretch/>
        </p:blipFill>
        <p:spPr>
          <a:xfrm>
            <a:off x="514440" y="1176480"/>
            <a:ext cx="8115120" cy="450504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3" descr=""/>
          <p:cNvPicPr/>
          <p:nvPr/>
        </p:nvPicPr>
        <p:blipFill>
          <a:blip r:embed="rId2"/>
          <a:stretch/>
        </p:blipFill>
        <p:spPr>
          <a:xfrm>
            <a:off x="1692360" y="4498920"/>
            <a:ext cx="6408720" cy="4381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3" descr=""/>
          <p:cNvPicPr/>
          <p:nvPr/>
        </p:nvPicPr>
        <p:blipFill>
          <a:blip r:embed="rId3"/>
          <a:stretch/>
        </p:blipFill>
        <p:spPr>
          <a:xfrm>
            <a:off x="1692360" y="5130720"/>
            <a:ext cx="6408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9" name="Picture 2" descr=""/>
          <p:cNvPicPr/>
          <p:nvPr/>
        </p:nvPicPr>
        <p:blipFill>
          <a:blip r:embed="rId1"/>
          <a:stretch/>
        </p:blipFill>
        <p:spPr>
          <a:xfrm>
            <a:off x="838080" y="1552680"/>
            <a:ext cx="7467840" cy="375264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3" descr=""/>
          <p:cNvPicPr/>
          <p:nvPr/>
        </p:nvPicPr>
        <p:blipFill>
          <a:blip r:embed="rId2"/>
          <a:stretch/>
        </p:blipFill>
        <p:spPr>
          <a:xfrm>
            <a:off x="1547640" y="2214720"/>
            <a:ext cx="6409080" cy="4381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3" descr=""/>
          <p:cNvPicPr/>
          <p:nvPr/>
        </p:nvPicPr>
        <p:blipFill>
          <a:blip r:embed="rId3"/>
          <a:stretch/>
        </p:blipFill>
        <p:spPr>
          <a:xfrm>
            <a:off x="1547640" y="2846520"/>
            <a:ext cx="6409080" cy="43812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3" descr=""/>
          <p:cNvPicPr/>
          <p:nvPr/>
        </p:nvPicPr>
        <p:blipFill>
          <a:blip r:embed="rId4"/>
          <a:stretch/>
        </p:blipFill>
        <p:spPr>
          <a:xfrm>
            <a:off x="1476360" y="4118040"/>
            <a:ext cx="6408720" cy="43812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3" descr=""/>
          <p:cNvPicPr/>
          <p:nvPr/>
        </p:nvPicPr>
        <p:blipFill>
          <a:blip r:embed="rId5"/>
          <a:stretch/>
        </p:blipFill>
        <p:spPr>
          <a:xfrm>
            <a:off x="1476360" y="4749840"/>
            <a:ext cx="6408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690480" y="1138320"/>
            <a:ext cx="7763040" cy="45813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5" descr=""/>
          <p:cNvPicPr/>
          <p:nvPr/>
        </p:nvPicPr>
        <p:blipFill>
          <a:blip r:embed="rId2"/>
          <a:stretch/>
        </p:blipFill>
        <p:spPr>
          <a:xfrm>
            <a:off x="2044800" y="3000240"/>
            <a:ext cx="2676600" cy="8859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5148360" y="3197160"/>
            <a:ext cx="1944720" cy="438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5" descr=""/>
          <p:cNvPicPr/>
          <p:nvPr/>
        </p:nvPicPr>
        <p:blipFill>
          <a:blip r:embed="rId4"/>
          <a:stretch/>
        </p:blipFill>
        <p:spPr>
          <a:xfrm>
            <a:off x="2027160" y="4900680"/>
            <a:ext cx="2676600" cy="8856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4932360" y="5151600"/>
            <a:ext cx="19432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Picture 1" descr=""/>
          <p:cNvPicPr/>
          <p:nvPr/>
        </p:nvPicPr>
        <p:blipFill>
          <a:blip r:embed="rId1"/>
          <a:stretch/>
        </p:blipFill>
        <p:spPr>
          <a:xfrm>
            <a:off x="885960" y="1486080"/>
            <a:ext cx="7372080" cy="38862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5" descr=""/>
          <p:cNvPicPr/>
          <p:nvPr/>
        </p:nvPicPr>
        <p:blipFill>
          <a:blip r:embed="rId2"/>
          <a:stretch/>
        </p:blipFill>
        <p:spPr>
          <a:xfrm>
            <a:off x="1498680" y="2543040"/>
            <a:ext cx="2676600" cy="8859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3"/>
          <a:stretch/>
        </p:blipFill>
        <p:spPr>
          <a:xfrm>
            <a:off x="4600440" y="2739960"/>
            <a:ext cx="1944720" cy="438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5" descr=""/>
          <p:cNvPicPr/>
          <p:nvPr/>
        </p:nvPicPr>
        <p:blipFill>
          <a:blip r:embed="rId4"/>
          <a:stretch/>
        </p:blipFill>
        <p:spPr>
          <a:xfrm>
            <a:off x="1455840" y="4549680"/>
            <a:ext cx="2676600" cy="8859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5"/>
          <a:stretch/>
        </p:blipFill>
        <p:spPr>
          <a:xfrm>
            <a:off x="4389480" y="4768920"/>
            <a:ext cx="194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Picture 1" descr=""/>
          <p:cNvPicPr/>
          <p:nvPr/>
        </p:nvPicPr>
        <p:blipFill>
          <a:blip r:embed="rId1"/>
          <a:stretch/>
        </p:blipFill>
        <p:spPr>
          <a:xfrm>
            <a:off x="571680" y="857160"/>
            <a:ext cx="8001000" cy="57438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2"/>
          <a:stretch/>
        </p:blipFill>
        <p:spPr>
          <a:xfrm>
            <a:off x="1692360" y="162864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3"/>
          <a:stretch/>
        </p:blipFill>
        <p:spPr>
          <a:xfrm>
            <a:off x="1763640" y="486900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966960" y="1533600"/>
            <a:ext cx="7210080" cy="37908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3" descr=""/>
          <p:cNvPicPr/>
          <p:nvPr/>
        </p:nvPicPr>
        <p:blipFill>
          <a:blip r:embed="rId3"/>
          <a:stretch/>
        </p:blipFill>
        <p:spPr>
          <a:xfrm>
            <a:off x="1476360" y="285264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4"/>
          <a:stretch/>
        </p:blipFill>
        <p:spPr>
          <a:xfrm>
            <a:off x="1547640" y="413244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2" name="Picture 1" descr=""/>
          <p:cNvPicPr/>
          <p:nvPr/>
        </p:nvPicPr>
        <p:blipFill>
          <a:blip r:embed="rId1"/>
          <a:stretch/>
        </p:blipFill>
        <p:spPr>
          <a:xfrm>
            <a:off x="785880" y="1214280"/>
            <a:ext cx="7581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5" name="Picture 1" descr=""/>
          <p:cNvPicPr/>
          <p:nvPr/>
        </p:nvPicPr>
        <p:blipFill>
          <a:blip r:embed="rId1"/>
          <a:stretch/>
        </p:blipFill>
        <p:spPr>
          <a:xfrm>
            <a:off x="876240" y="1104840"/>
            <a:ext cx="7391520" cy="54673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2"/>
          <a:stretch/>
        </p:blipFill>
        <p:spPr>
          <a:xfrm>
            <a:off x="1258920" y="2919240"/>
            <a:ext cx="433440" cy="4384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3"/>
          <a:stretch/>
        </p:blipFill>
        <p:spPr>
          <a:xfrm>
            <a:off x="1332000" y="414972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3" descr=""/>
          <p:cNvPicPr/>
          <p:nvPr/>
        </p:nvPicPr>
        <p:blipFill>
          <a:blip r:embed="rId4"/>
          <a:stretch/>
        </p:blipFill>
        <p:spPr>
          <a:xfrm>
            <a:off x="1332000" y="479736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3" descr=""/>
          <p:cNvPicPr/>
          <p:nvPr/>
        </p:nvPicPr>
        <p:blipFill>
          <a:blip r:embed="rId5"/>
          <a:stretch/>
        </p:blipFill>
        <p:spPr>
          <a:xfrm>
            <a:off x="1332000" y="543888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3" descr=""/>
          <p:cNvPicPr/>
          <p:nvPr/>
        </p:nvPicPr>
        <p:blipFill>
          <a:blip r:embed="rId6"/>
          <a:stretch/>
        </p:blipFill>
        <p:spPr>
          <a:xfrm>
            <a:off x="1332000" y="615960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3" name="Picture 1" descr=""/>
          <p:cNvPicPr/>
          <p:nvPr/>
        </p:nvPicPr>
        <p:blipFill>
          <a:blip r:embed="rId1"/>
          <a:stretch/>
        </p:blipFill>
        <p:spPr>
          <a:xfrm>
            <a:off x="900000" y="1519200"/>
            <a:ext cx="7344000" cy="38196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2"/>
          <a:stretch/>
        </p:blipFill>
        <p:spPr>
          <a:xfrm>
            <a:off x="2050920" y="2270160"/>
            <a:ext cx="433440" cy="4381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3" descr=""/>
          <p:cNvPicPr/>
          <p:nvPr/>
        </p:nvPicPr>
        <p:blipFill>
          <a:blip r:embed="rId3"/>
          <a:stretch/>
        </p:blipFill>
        <p:spPr>
          <a:xfrm>
            <a:off x="2124000" y="2919240"/>
            <a:ext cx="432000" cy="4384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3" descr=""/>
          <p:cNvPicPr/>
          <p:nvPr/>
        </p:nvPicPr>
        <p:blipFill>
          <a:blip r:embed="rId4"/>
          <a:stretch/>
        </p:blipFill>
        <p:spPr>
          <a:xfrm>
            <a:off x="2050920" y="3573360"/>
            <a:ext cx="433440" cy="4381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3" descr=""/>
          <p:cNvPicPr/>
          <p:nvPr/>
        </p:nvPicPr>
        <p:blipFill>
          <a:blip r:embed="rId5"/>
          <a:stretch/>
        </p:blipFill>
        <p:spPr>
          <a:xfrm>
            <a:off x="2050920" y="4214880"/>
            <a:ext cx="433440" cy="4381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"/>
          <p:cNvPicPr/>
          <p:nvPr/>
        </p:nvPicPr>
        <p:blipFill>
          <a:blip r:embed="rId6"/>
          <a:stretch/>
        </p:blipFill>
        <p:spPr>
          <a:xfrm>
            <a:off x="2124000" y="479736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1" name="Picture 1" descr=""/>
          <p:cNvPicPr/>
          <p:nvPr/>
        </p:nvPicPr>
        <p:blipFill>
          <a:blip r:embed="rId1"/>
          <a:stretch/>
        </p:blipFill>
        <p:spPr>
          <a:xfrm>
            <a:off x="1085760" y="1571760"/>
            <a:ext cx="69724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4:1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